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031-F73E-4D1E-941C-18D15150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248-11BC-4017-9DDF-CFBB6CC7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29E-FF83-4C42-920E-F4456583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4B9-FB2D-4CF6-B70F-0F58AE46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9E6-3CCC-4600-BD0E-AE9B52B8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B2F-1CC9-415C-B134-F98D01F6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856-3C00-43DF-AA44-0F042726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594-4B73-4F5D-9C60-D3EC2821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B74-74D0-4F70-81A6-D99E82E1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119-207A-4199-82F0-E66E6664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1C1-26C8-491C-A404-A3BFE208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FEA-5FD8-4582-AEAD-64F02EDA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D8C5-BF7C-4B9C-A5F8-FADD0832B2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4169-666E-4013-9EC4-70BC26777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1499760"/>
            <a:ext cx="7885080" cy="29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3b7"/>
                </a:solidFill>
                <a:latin typeface="Times New Roman"/>
                <a:ea typeface="Times New Roman"/>
              </a:rPr>
              <a:t>Порядок осуществления территориальными органами Федерального казначейства полномочий получателя средств федерального бюджета (бюджета субъекта) по перечислению межбюджетных трансфертов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324000" y="333360"/>
            <a:ext cx="8572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3b7"/>
                </a:solidFill>
                <a:latin typeface="Times New Roman"/>
                <a:ea typeface="Times New Roman"/>
              </a:rPr>
              <a:t>Управление Федерального казначейства по Тве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389480" y="4581360"/>
            <a:ext cx="4468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Заместитель руководителя УФК по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Е.Р. Арма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20.0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казна\общий архив\герб ФК\орел2.png"/>
          <p:cNvPicPr/>
          <p:nvPr/>
        </p:nvPicPr>
        <p:blipFill>
          <a:blip r:embed="rId1"/>
          <a:stretch/>
        </p:blipFill>
        <p:spPr>
          <a:xfrm>
            <a:off x="395280" y="4292640"/>
            <a:ext cx="2089080" cy="2104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115920"/>
            <a:ext cx="7201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Нормативные документы регулирующие порядок санкционирования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юджетный кодекс РФ п. 7 статьи 1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30.09.2014 N 999 (ред. от 31.01.201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О формировании, предоставлении и распределении субсидий из федерального бюджета бюджетам субъектов Российской Федерации« (вместе с "Правилами формирования, предоставления и распределения субсидий из федерального бюджета бюджетам субъектов Российской Федерации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каз Минфина России от 12.12.2017 N 223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Об утверждении Порядка проведения санкционирования оплаты денежных обязательств по расходам получателей средств бюджета субъекта Российской Федерации, в целях софинансирования которых предоставляется субсидия из федерального бюджета бюджету субъекта Российской Федерации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каз Минфина России от 13.12.2017 N 232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Об утверждении Типовой формы соглашения о предоставлении субсидии из федерального бюджета бюджету субъекта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каз Минфина России от 13.12.2017 N 231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Об утверждении порядка проведения Федеральным казначейством проверки документов, подтверждающих осуществление расходов бюджета субъекта Российской Федерации, в целях финансового обеспечения или софинансирования которых из федерального бюджета бюджету субъекта Российской Федерации предоставляются межбюджетные трансферты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Зарегистрировано в Минюсте России 22.12.2017 N 4938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FF18-423E-4E10-AF4E-379633335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416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Осуществление полномочий территориальными органами федерального казначейства: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6DEE-F314-448B-977C-2527486957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00000" y="1247760"/>
            <a:ext cx="72010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равовые акты ГРБС (Решение ГРБС)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42D8-E4E1-420A-B77C-CF8EAD2C9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619200" y="1557360"/>
            <a:ext cx="1225440" cy="1295280"/>
          </a:xfrm>
          <a:prstGeom prst="rect">
            <a:avLst/>
          </a:prstGeom>
          <a:solidFill>
            <a:srgbClr val="b9d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6443640" y="4173480"/>
            <a:ext cx="1873440" cy="1835280"/>
          </a:xfrm>
          <a:prstGeom prst="rect">
            <a:avLst/>
          </a:prstGeom>
          <a:solidFill>
            <a:srgbClr val="005bd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2879640" y="1500120"/>
            <a:ext cx="14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позднее 2-х рабочих д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2879640" y="2319480"/>
            <a:ext cx="1800360" cy="720720"/>
          </a:xfrm>
          <a:prstGeom prst="rect">
            <a:avLst/>
          </a:prstGeom>
          <a:solidFill>
            <a:srgbClr val="ff3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ГРБ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5"/>
          <p:cNvSpPr/>
          <p:nvPr/>
        </p:nvSpPr>
        <p:spPr>
          <a:xfrm>
            <a:off x="5940360" y="1492200"/>
            <a:ext cx="2303640" cy="1655640"/>
          </a:xfrm>
          <a:prstGeom prst="rect">
            <a:avLst/>
          </a:prstGeom>
          <a:solidFill>
            <a:srgbClr val="87bb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овый орган субъекта РФ (мо), бюджету которого предоставляются Ц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9"/>
          <p:cNvCxnSpPr/>
          <p:nvPr/>
        </p:nvCxnSpPr>
        <p:spPr>
          <a:xfrm>
            <a:off x="1908000" y="1988640"/>
            <a:ext cx="388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Прямая со стрелкой 23"/>
          <p:cNvCxnSpPr/>
          <p:nvPr/>
        </p:nvCxnSpPr>
        <p:spPr>
          <a:xfrm flipH="1">
            <a:off x="2555640" y="4473720"/>
            <a:ext cx="374544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Прямоугольник 24"/>
          <p:cNvSpPr/>
          <p:nvPr/>
        </p:nvSpPr>
        <p:spPr>
          <a:xfrm>
            <a:off x="684360" y="4365720"/>
            <a:ext cx="1511280" cy="1655640"/>
          </a:xfrm>
          <a:prstGeom prst="rect">
            <a:avLst/>
          </a:prstGeom>
          <a:solidFill>
            <a:srgbClr val="4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юджетных средств, чьи полномочия осуществляет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5"/>
          <p:cNvSpPr/>
          <p:nvPr/>
        </p:nvSpPr>
        <p:spPr>
          <a:xfrm>
            <a:off x="3505320" y="4221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позднее 2-го рабочего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29"/>
          <p:cNvCxnSpPr/>
          <p:nvPr/>
        </p:nvCxnSpPr>
        <p:spPr>
          <a:xfrm>
            <a:off x="1907640" y="2804760"/>
            <a:ext cx="4465080" cy="15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Прямоугольник 32"/>
          <p:cNvSpPr/>
          <p:nvPr/>
        </p:nvSpPr>
        <p:spPr>
          <a:xfrm>
            <a:off x="3600360" y="4910040"/>
            <a:ext cx="2938680" cy="1146240"/>
          </a:xfrm>
          <a:prstGeom prst="rect">
            <a:avLst/>
          </a:prstGeom>
          <a:solidFill>
            <a:srgbClr val="ff3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ыписку из л/с  по переданным полномочиям и информацию по Ц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Информацию об аналитических кодах, присвоенных ФК Ц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34"/>
          <p:cNvCxnSpPr/>
          <p:nvPr/>
        </p:nvCxnSpPr>
        <p:spPr>
          <a:xfrm flipV="1">
            <a:off x="6372000" y="3283920"/>
            <a:ext cx="108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Прямоугольник 35"/>
          <p:cNvSpPr/>
          <p:nvPr/>
        </p:nvSpPr>
        <p:spPr>
          <a:xfrm>
            <a:off x="6732720" y="4910040"/>
            <a:ext cx="1871640" cy="11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лях фин.поддержки по вопросам местного знач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 цели ФК         1 код классиф.ра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37"/>
          <p:cNvCxnSpPr/>
          <p:nvPr/>
        </p:nvCxnSpPr>
        <p:spPr>
          <a:xfrm>
            <a:off x="6539040" y="5624280"/>
            <a:ext cx="19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43"/>
          <p:cNvCxnSpPr/>
          <p:nvPr/>
        </p:nvCxnSpPr>
        <p:spPr>
          <a:xfrm>
            <a:off x="7811640" y="580500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669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Информация направляемая в ТОФК </a:t>
            </a:r>
            <a:br>
              <a:rPr sz="2400"/>
            </a:b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(Решение ГРБС)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4D55-3DCD-4783-9DB2-A60838528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276640" y="1125360"/>
            <a:ext cx="45907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редставление документов ТОФК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4566-AFC2-4E1B-8386-66DB049C41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1224000" y="1557360"/>
            <a:ext cx="2232000" cy="863640"/>
          </a:xfrm>
          <a:prstGeom prst="rect">
            <a:avLst/>
          </a:prstGeom>
          <a:solidFill>
            <a:srgbClr val="c3dd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684360" y="4514760"/>
            <a:ext cx="2158920" cy="1441440"/>
          </a:xfrm>
          <a:prstGeom prst="rect">
            <a:avLst/>
          </a:prstGeom>
          <a:solidFill>
            <a:srgbClr val="2c7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тель бюджет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5796000" y="2287440"/>
            <a:ext cx="2016000" cy="1295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позднее следующего рабочего дня после отражения операций на л/с по переданным полномоч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10"/>
          <p:cNvCxnSpPr/>
          <p:nvPr/>
        </p:nvCxnSpPr>
        <p:spPr>
          <a:xfrm>
            <a:off x="3603240" y="2205000"/>
            <a:ext cx="3096360" cy="20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Прямоугольник 11"/>
          <p:cNvSpPr/>
          <p:nvPr/>
        </p:nvSpPr>
        <p:spPr>
          <a:xfrm>
            <a:off x="6012000" y="4389480"/>
            <a:ext cx="2305080" cy="1511280"/>
          </a:xfrm>
          <a:prstGeom prst="rect">
            <a:avLst/>
          </a:prstGeom>
          <a:solidFill>
            <a:srgbClr val="72a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овый орган субъекта РФ (мо), бюджету которого предоставляются Ц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6"/>
          <p:cNvSpPr/>
          <p:nvPr/>
        </p:nvSpPr>
        <p:spPr>
          <a:xfrm>
            <a:off x="2843280" y="2997360"/>
            <a:ext cx="2449440" cy="1584000"/>
          </a:xfrm>
          <a:prstGeom prst="rect">
            <a:avLst/>
          </a:prstGeom>
          <a:solidFill>
            <a:srgbClr val="ff3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иска из л/с по переданным полномочиям с приложением документов и приложение к выписке (Приложение №60 к Порядку №21н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9"/>
          <p:cNvSpPr/>
          <p:nvPr/>
        </p:nvSpPr>
        <p:spPr>
          <a:xfrm>
            <a:off x="420840" y="2935440"/>
            <a:ext cx="1487160" cy="1296720"/>
          </a:xfrm>
          <a:prstGeom prst="rect">
            <a:avLst/>
          </a:prstGeom>
          <a:solidFill>
            <a:srgbClr val="ff3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чет о состоянии л/с (приложение №27 к Порядку №21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0"/>
          <p:cNvSpPr/>
          <p:nvPr/>
        </p:nvSpPr>
        <p:spPr>
          <a:xfrm>
            <a:off x="2087640" y="2693880"/>
            <a:ext cx="252360" cy="154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д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22"/>
          <p:cNvCxnSpPr/>
          <p:nvPr/>
        </p:nvCxnSpPr>
        <p:spPr>
          <a:xfrm>
            <a:off x="2006280" y="2421000"/>
            <a:ext cx="1080" cy="20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26"/>
          <p:cNvCxnSpPr/>
          <p:nvPr/>
        </p:nvCxnSpPr>
        <p:spPr>
          <a:xfrm>
            <a:off x="2700000" y="2421000"/>
            <a:ext cx="1080" cy="20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Операции осуществляются ТОФК: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8698-8E2A-4C05-BB81-5754A69AB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395280" y="1197000"/>
            <a:ext cx="2376360" cy="1440000"/>
          </a:xfrm>
          <a:prstGeom prst="rect">
            <a:avLst/>
          </a:prstGeom>
          <a:solidFill>
            <a:srgbClr val="87bb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овый орган субъекта РФ (мо), бюджету которого предоставляются Ц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627280" y="2060640"/>
            <a:ext cx="4392720" cy="3960720"/>
          </a:xfrm>
          <a:prstGeom prst="rect">
            <a:avLst/>
          </a:prstGeom>
          <a:solidFill>
            <a:srgbClr val="ff3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/п в виде: отдельного пакета электронных доку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ого платежного поручения в случае осуществления территориальным органом Федерального казначейства операции по санкционированию целевых расх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ы подтверждающие возникновение ДО, предусмотр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ми предоставления целевых сред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м, утв.Приказом  Минфина России №223н от 12.12.201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м об осущ. ТОФК отд. полномочий, заключенным в соотв. с п. 2 ст. 166.1 БК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7020000" y="5135400"/>
            <a:ext cx="1728720" cy="1224000"/>
          </a:xfrm>
          <a:prstGeom prst="rect">
            <a:avLst/>
          </a:prstGeom>
          <a:solidFill>
            <a:srgbClr val="87bb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000" y="115920"/>
            <a:ext cx="6335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Завершение операций по целевым расходам: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лях завершения операций по целевым расхода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 платежные документы (платежные поручения) по целевым расходам принимаются территориальным органом Федерального казначейства не позднее трех рабочих дней до окончания финансового г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 в течение десяти рабочих дней до окончания финансового года операции по целевым расходам проводятся только после поступления суммы фактической потребности на единый счет бюджета субъекта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545B-5393-4037-9240-B9A9E16C2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756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3b7"/>
                </a:solidFill>
                <a:latin typeface="Times New Roman"/>
                <a:ea typeface="Times New Roman"/>
              </a:rPr>
              <a:t>Управление Федерального казначейства по Тверской области</a:t>
            </a:r>
            <a:br>
              <a:rPr sz="2000"/>
            </a:b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3b7"/>
                </a:solidFill>
                <a:latin typeface="Arial Black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60AA-CC07-4637-A8FF-D9F25B8A5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GorelovAV</dc:creator>
  <dc:description/>
  <dc:language>en-US</dc:language>
  <cp:lastModifiedBy>ArmasovaER</cp:lastModifiedBy>
  <dcterms:modified xsi:type="dcterms:W3CDTF">2018-02-20T08:36:27Z</dcterms:modified>
  <cp:revision>1222</cp:revision>
  <dc:subject/>
  <dc:title>GIS GMP</dc:title>
</cp:coreProperties>
</file>